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CB1-5AB5-4B76-81DE-B7754EE9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717-0487-4655-A9F3-7D9F8826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9D2-0748-459D-A130-484A8B34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50D-6489-44CE-BFFB-5E5A8110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0AB-4CA8-448E-BDB4-00CE8E72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F70-CA5D-40D0-8484-E057D130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890-F15B-4E4B-9ACA-18C7897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42F-2B3D-4B8E-A460-40373E09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AC7-A6FA-4037-8242-C86A0D73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C7B-7CB1-4BE0-8894-5617944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8A8-FC2A-40B2-A76E-CBB0DB6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8AD-46AD-4383-821E-726996DB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EE9-CF0D-407E-BCB0-C7ACCB97D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6:11:24Z</dcterms:created>
  <dc:creator>Grupo Editorial</dc:creator>
  <dc:description/>
  <dc:language>en-US</dc:language>
  <cp:lastModifiedBy>Grupo Editorial</cp:lastModifiedBy>
  <dcterms:modified xsi:type="dcterms:W3CDTF">2001-11-20T16:15:25Z</dcterms:modified>
  <cp:revision>1</cp:revision>
  <dc:subject/>
  <dc:title>Sin título de diapositiva</dc:title>
</cp:coreProperties>
</file>